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A9D6-9320-47EE-9615-FE4C52354A6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j8TGhcCnxs&amp;feature=related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illy video to introduce the topic…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wj8TGhcCnxs&amp;feature=related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Photosynthesis rap: (mentions light reactions &amp; Calvin Cycle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pE82qtKSSH4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4E3A-663F-4A8D-AC92-39910284E34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hisglory.com/photos2/Green%20Leave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sciencephoto.com/images/download_lo_res.html?id=670035023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Stomata are important structures in leaves for gas exchang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howplantswork.com/2009/02/12/photosynthesis-and-global-weirding-how-heat-and-drought-affect-photosynthesis-part-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micro.magnet.fsu.edu/cells/chloroplasts/chloroplast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n photosynthetic eukaryot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agron.iastate.edu/courses/Agron317/Pigment_Inhibitor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yorku.ca/eye/spectru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31E2-2F0D-4160-B65F-D036757E69B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93C5-B6E8-46C1-B4CD-1893D37557A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7C3A-C7A5-4667-B18E-33C838C0825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lrrpublic.cli.det.nsw.edu.au/lrrSecure/Sites/LRRView/7397/applets/Living_Things_Database/livingthings/lesson7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A301-DA7E-42B6-89B5-80D6D52454F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Absorption spectrum indicates wavelengths of light absorbed by a pigment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uic.edu/classes/bios/bios100/lecturesf04am/lect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B9DF-87C2-4EC9-9F88-C61034B3C12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biology.info/Gort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elmann’s experiments (1882);  strand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pirogyra (green alga), water, aerobic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4DA9-CCB8-4E45-BA52-01B4B850745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983F-64B8-49A3-9D46-482367FEDF4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bilingualbiology11a.blogspot.com/2011/01/photosynthesi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EA13-A4A2-4633-912A-16D31A8485D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photochembgsu.com/students/maria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lasses.midlandstech.edu/carterp/courses/bio101/labquiz3/ss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1EE5-A969-4B0D-8B32-F4B1828049E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7F65-B38D-4FBF-A6B6-8969BE4D83B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7BDA-1A22-4976-92C5-A9EC35270FF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2758-2E5C-496A-8622-19233476C05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406-A82A-41DC-8103-3AB1AB40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1B9-9D44-4391-90FC-C61CA256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131-23FF-4C68-8B93-D48274AB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D7E-072D-4560-9C97-5C32F7AE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225-0C04-42E6-991A-EA81B703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591-E641-4677-8BF2-CB47E441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F9D-9E78-4A4F-87EC-3006F5B5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8F1-4AF5-4AA2-A14F-324BB295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FE6-D2E9-40ED-935D-35F1422A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F6A-2438-47C2-864C-FE891F9E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B1D-5D39-4296-9200-5386F16E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7FD-A34A-4CC7-8F88-C2D8FBAD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8161-CEF3-47D9-8B02-258F0A188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1_uez5WX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C1_uez5WX1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are photosynthetic organ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dapted fo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4648320" y="1949400"/>
            <a:ext cx="40384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 of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2411280" y="16002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3139920" y="1600200"/>
            <a:ext cx="286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48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hotosynthetic organism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imary photosynthetic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5005440" y="1600200"/>
            <a:ext cx="332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8229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s the primary photosynthetic pi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gives plants a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sorb different wavelengths of light than 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hocyanins (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CA" sz="32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rotenoids (</a:t>
            </a:r>
            <a:r>
              <a:rPr b="0" lang="en-CA" sz="3200" spc="-1" strike="noStrike">
                <a:solidFill>
                  <a:srgbClr val="ff8000"/>
                </a:solidFill>
                <a:latin typeface="Arial"/>
              </a:rPr>
              <a:t>oran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rotenoid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55520" y="-1309680"/>
            <a:ext cx="55911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fig.cox.miami.edu/~cmallery/255/255phts/sf7x5a.jpg"/>
          <p:cNvPicPr/>
          <p:nvPr/>
        </p:nvPicPr>
        <p:blipFill>
          <a:blip r:embed="rId1"/>
          <a:stretch/>
        </p:blipFill>
        <p:spPr>
          <a:xfrm>
            <a:off x="1500120" y="1071720"/>
            <a:ext cx="5591160" cy="2590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Sunflower"/>
          <p:cNvPicPr/>
          <p:nvPr/>
        </p:nvPicPr>
        <p:blipFill>
          <a:blip r:embed="rId2"/>
          <a:stretch/>
        </p:blipFill>
        <p:spPr>
          <a:xfrm>
            <a:off x="1000080" y="3643200"/>
            <a:ext cx="3167280" cy="236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B-Carotene absorbance"/>
          <p:cNvPicPr/>
          <p:nvPr/>
        </p:nvPicPr>
        <p:blipFill>
          <a:blip r:embed="rId3"/>
          <a:stretch/>
        </p:blipFill>
        <p:spPr>
          <a:xfrm>
            <a:off x="4500720" y="3500280"/>
            <a:ext cx="4071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an Helmont’s experiment (1648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457200" y="2001960"/>
            <a:ext cx="82296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thocya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Anthocyanin Formula"/>
          <p:cNvPicPr/>
          <p:nvPr/>
        </p:nvPicPr>
        <p:blipFill>
          <a:blip r:embed="rId1"/>
          <a:stretch/>
        </p:blipFill>
        <p:spPr>
          <a:xfrm>
            <a:off x="1000080" y="1285920"/>
            <a:ext cx="3000600" cy="244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Flower"/>
          <p:cNvPicPr/>
          <p:nvPr/>
        </p:nvPicPr>
        <p:blipFill>
          <a:blip r:embed="rId2"/>
          <a:stretch/>
        </p:blipFill>
        <p:spPr>
          <a:xfrm>
            <a:off x="5357880" y="157176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Anthocyanin Absorbance"/>
          <p:cNvPicPr/>
          <p:nvPr/>
        </p:nvPicPr>
        <p:blipFill>
          <a:blip r:embed="rId3"/>
          <a:stretch/>
        </p:blipFill>
        <p:spPr>
          <a:xfrm>
            <a:off x="4857840" y="3643200"/>
            <a:ext cx="3429000" cy="2702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food-info.net/images/blueberries.jpg"/>
          <p:cNvPicPr/>
          <p:nvPr/>
        </p:nvPicPr>
        <p:blipFill>
          <a:blip r:embed="rId4"/>
          <a:stretch/>
        </p:blipFill>
        <p:spPr>
          <a:xfrm>
            <a:off x="928800" y="385776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ww.ncjournalforwomen.com/images/2005monthlyimages/nov05images/fall_leaves.jpg"/>
          <p:cNvPicPr/>
          <p:nvPr/>
        </p:nvPicPr>
        <p:blipFill>
          <a:blip r:embed="rId1"/>
          <a:stretch/>
        </p:blipFill>
        <p:spPr>
          <a:xfrm>
            <a:off x="1928880" y="1714680"/>
            <a:ext cx="54291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f a photon of l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ns in chlorophy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transfer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molecules &amp;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rimary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3" descr="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457200" y="180504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 complex organic molecules using energy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1456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tag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 is captured and used to synthesize ATP and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independent reactions (Calvi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ATP and NADPH is used to “fix”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simple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3-04-02T13:32:32Z</dcterms:modified>
  <cp:revision>94</cp:revision>
  <dc:subject/>
  <dc:title>Slide 1</dc:title>
</cp:coreProperties>
</file>